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180B7-38B1-4DA5-96D8-E661DC8ABD2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574F5-58E8-42BE-A748-B000BBF9D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13A28-1AEE-4AAF-9717-0F6ABA87E7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3B3-9931-413D-BF92-C82CB3A5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FBC-516E-4C14-8466-7BF374DA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20E-C7F9-4BB0-A176-578DFFD6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A7E-3E13-4387-9F25-94430D6D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4760-C015-486B-B14F-BB64C6C4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7CE-87F2-405F-B659-A72CA4A5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4AD-C8D8-4272-8049-8E0D7BC7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746-80AD-41B8-89A3-AF17589E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F86-6503-4399-A8FF-E10D02E6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2D0-CE7E-4053-98B5-3DDF0694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F3A-AE90-4F30-8942-A8821151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EB5-4079-4008-A40A-ED4EC645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12490-C0A1-42AC-BDD6-DAEC7B4F9340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9ADBE-1BD6-4490-9897-790877E244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ronouns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Garamond"/>
              </a:rPr>
              <a:t>American Li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Indefinite Pronou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refers to a person, place, or thing that may or may not be specifically nam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lthough indefinite pronouns do not require specific antecedents, they often have th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no specific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evera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have visited Williamsbur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pecific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stud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prepared a repor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definit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905120"/>
          <a:ext cx="8001000" cy="4336920"/>
        </p:xfrm>
        <a:graphic>
          <a:graphicData uri="http://schemas.openxmlformats.org/drawingml/2006/table">
            <a:tbl>
              <a:tblPr/>
              <a:tblGrid>
                <a:gridCol w="3186000"/>
                <a:gridCol w="2148120"/>
                <a:gridCol w="26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gula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ther, anybody, anyone, anything, each, either, everybody, everyone, everything, little, much, neither, nobody, no one, nothing, one, other, somebody, someone, someth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ve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ronouns and Anteced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Pronoun: a word that takes the place of a noun, another pronoun, or a group of words functioning as a nou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Antecedent: noun, pronoun, or group of words functioning as a  noun to which a pronoun refe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EX: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Michael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 said he lost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his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 watch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EX: Going to classes might keep you busy, but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it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 is necessar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ersonal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ronouns commonly used to refer to particular people, places, and thi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erson speaking (first pers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erson spoken to (second pers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erson, place, or thing spoken about (third pers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ersonal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905120"/>
          <a:ext cx="8229600" cy="2879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First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I, me, my, m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we, us, our, 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econ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, your, y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, your, y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r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e, him, his, she, her, hers, it, 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y, them, their, thei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flexive and Intensiv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reflexive: ends in –self or –selves and indicates that someone or something in the sentence acts for or on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intensive: ends in –self or –selves and simply adds emphasis to a noun or pronoun in the same sent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47920" y="4495680"/>
          <a:ext cx="6095880" cy="18892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First Per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mysel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oursel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econd Per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rsel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rsel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rd Per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imself, herself, itsel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msel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Garamond"/>
              </a:rPr>
              <a:t>Reflexive and Intensive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Garamond"/>
              </a:rPr>
              <a:t>pronoun exampl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Reflexiv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The basketball players won the game not only for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themselves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, but for the entire sch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I helped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myself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 to a large serving of turkey at the Thanksgiving feas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Intens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Harriet Beecher Stow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erself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 helped slaves escape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Captain Smith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imself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 earned his captors’ respec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Demonstrativ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directs attention to a specific person, place, or 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is a beautifu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c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i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i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omewor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for tonigh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o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ar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puzzl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that are difficul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es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r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stude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that were runn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5334120"/>
          <a:ext cx="6096240" cy="792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s, t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se, th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lative Pronou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introduces an adjective clause and connects it to the word that the clause modif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relates one idea in a sentence to anoth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Examples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We read a book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that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 contained an account of the settlers’ experienc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The settlers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who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 had written it described their hardship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66680" y="3124080"/>
          <a:ext cx="6096240" cy="743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Relative Pronou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at          which          who          whom          who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Interrogative Pronou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used to begin a ques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sometimes the antecedent of an interrogative pronoun is unknow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won the game last night?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Garamond"/>
              </a:rPr>
              <a:t>unknown anteced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w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nam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of your first pe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95280" y="2590920"/>
          <a:ext cx="6096240" cy="742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 Pronou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         which          who          whom        who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5:01:05Z</dcterms:created>
  <dc:creator>ndadmin</dc:creator>
  <dc:description/>
  <dc:language>en-US</dc:language>
  <cp:lastModifiedBy>Katherine Hausauer</cp:lastModifiedBy>
  <cp:lastPrinted>2008-10-29T18:50:08Z</cp:lastPrinted>
  <dcterms:modified xsi:type="dcterms:W3CDTF">2010-12-06T15:51:06Z</dcterms:modified>
  <cp:revision>7</cp:revision>
  <dc:subject/>
  <dc:title>Pronouns American Lit</dc:title>
</cp:coreProperties>
</file>